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png" ContentType="image/pn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91FD2-1AA2-4171-A389-1CF966DFB9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ecution of J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the end of 1934, most Jewish lawyers, doctors, professors, civil servants, and musicians had lost their jobs and the right to practice their profess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remburg Law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of 1935 deprived Jews of all rights of citizenshi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1938, 25% of German Jews had emigrated (many were the "cream of the crop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ristallnach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(“The Night of Broken Glass”) -- 19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assassination of a German diplomat in Paris by young Jewish boy as pretense, Hitler ordered an attack on Jewish communit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ll-organized wave of violence destroyed homes, synagogues, and busines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usands of Jews were arrested and made to pay for the dam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olocaus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 6 million European Jews eventually killed during WWII (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"Final Solution"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victims of persecution included Slavs, Gypsies, Jehovah’s Witnesses, communists, homosexuals, mentally and physically handicapped, and political opponents (totaled 6 million by 194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42B42-34F2-4AE3-89CC-9BEEA426E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A854D-C5F6-4222-A2F4-BC46B3F06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FDC8E-FD6D-42BF-80F1-D7BA765CF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99485-887F-4E07-8AA7-E9EFC585A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5B7B4-4883-4AB9-871B-AE30FA531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31F56-7AD0-4827-93D0-8378B37F7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5539B-10B7-40C8-9DE6-87206CBB2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3AA7B-D493-46B9-8462-15B5F7A7D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0DA54-692D-4A4F-9258-F6F3F2244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57370-A761-4981-8ABA-DE472A1E6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3C665-2432-4F77-9A09-67133366E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EB863-AB5D-4839-A83C-59885D2D0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4F3F4-1F80-4D65-8910-B4E6EBBBFD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historyplace.com/worldwar2/holocaust/h-statistics.htm" TargetMode="External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youtube.com/watch?v=HrombDUtOYY" TargetMode="External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youtube.com/watch?v=ges-Od4tR0I" TargetMode="External"/><Relationship Id="rId3" Type="http://schemas.openxmlformats.org/officeDocument/2006/relationships/hyperlink" Target="http://www.youtube.com/watch?v=UvbBD8vJbb4" TargetMode="Externa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Holocau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uses, Events, &amp; Outco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2">
            <a:lum contrast="12000"/>
          </a:blip>
          <a:stretch/>
        </p:blipFill>
        <p:spPr>
          <a:xfrm>
            <a:off x="2514600" y="939960"/>
            <a:ext cx="5168880" cy="5689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1066680" y="152280"/>
            <a:ext cx="8001000" cy="749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300" spc="-1" strike="noStrike">
                <a:solidFill>
                  <a:srgbClr val="d80000"/>
                </a:solidFill>
                <a:latin typeface="Nosferatu"/>
              </a:rPr>
              <a:t>Horrors</a:t>
            </a:r>
            <a:r>
              <a:rPr b="1" lang="en-US" sz="3500" spc="-1" strike="noStrike">
                <a:solidFill>
                  <a:srgbClr val="d80000"/>
                </a:solidFill>
                <a:latin typeface="Comic Sans MS"/>
              </a:rPr>
              <a:t> of the Holocaust Exposed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1295280" y="1047600"/>
            <a:ext cx="4340520" cy="3170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3" name=""/>
          <p:cNvSpPr/>
          <p:nvPr/>
        </p:nvSpPr>
        <p:spPr>
          <a:xfrm>
            <a:off x="1676520" y="4476600"/>
            <a:ext cx="198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rematoria at Majdan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4191120" y="3638520"/>
            <a:ext cx="4627440" cy="2914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5" name=""/>
          <p:cNvSpPr/>
          <p:nvPr/>
        </p:nvSpPr>
        <p:spPr>
          <a:xfrm>
            <a:off x="6705720" y="2739960"/>
            <a:ext cx="198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Entrance to Auschwit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152280"/>
            <a:ext cx="8001000" cy="749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300" spc="-1" strike="noStrike">
                <a:solidFill>
                  <a:srgbClr val="d80000"/>
                </a:solidFill>
                <a:latin typeface="Nosferatu"/>
              </a:rPr>
              <a:t>Horrors</a:t>
            </a:r>
            <a:r>
              <a:rPr b="1" lang="en-US" sz="3500" spc="-1" strike="noStrike">
                <a:solidFill>
                  <a:srgbClr val="d80000"/>
                </a:solidFill>
                <a:latin typeface="Comic Sans MS"/>
              </a:rPr>
              <a:t> of the Holocaust Exposed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1066680" y="289080"/>
            <a:ext cx="8001000" cy="749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300" spc="-1" strike="noStrike">
                <a:solidFill>
                  <a:srgbClr val="d80000"/>
                </a:solidFill>
                <a:latin typeface="Nosferatu"/>
              </a:rPr>
              <a:t>Horrors</a:t>
            </a:r>
            <a:r>
              <a:rPr b="1" lang="en-US" sz="3500" spc="-1" strike="noStrike">
                <a:solidFill>
                  <a:srgbClr val="d80000"/>
                </a:solidFill>
                <a:latin typeface="Comic Sans MS"/>
              </a:rPr>
              <a:t> of the Holocaust Exposed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905120" y="6095880"/>
            <a:ext cx="624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lave Labor at Buchenwa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1905120" y="1066680"/>
            <a:ext cx="6248160" cy="500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143000" y="212760"/>
            <a:ext cx="8001000" cy="627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d80000"/>
                </a:solidFill>
                <a:latin typeface="Comic Sans MS"/>
              </a:rPr>
              <a:t>Horrors of the Holocaust Exposed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6019920"/>
            <a:ext cx="601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Mass Graves at Bergen-Bels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2438280" y="1066680"/>
            <a:ext cx="5181840" cy="4846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locaust Statist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The History Place - Holocaust Statis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295280" y="76320"/>
            <a:ext cx="7543800" cy="1190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d80000"/>
                </a:solidFill>
                <a:latin typeface="Comic Sans MS"/>
              </a:rPr>
              <a:t>The Nuremberg War Trials:</a:t>
            </a:r>
            <a:br>
              <a:rPr sz="3800"/>
            </a:br>
            <a:r>
              <a:rPr b="1" i="1" lang="en-US" sz="3400" spc="-1" strike="noStrike">
                <a:solidFill>
                  <a:srgbClr val="d80000"/>
                </a:solidFill>
                <a:latin typeface="Comic Sans MS"/>
              </a:rPr>
              <a:t>Crimes Against Humanity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>
            <a:lum contrast="18000"/>
          </a:blip>
          <a:stretch/>
        </p:blipFill>
        <p:spPr>
          <a:xfrm>
            <a:off x="1752480" y="1422360"/>
            <a:ext cx="6553440" cy="5207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 was not one of them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"First they came for the Communists but I was not a Communist so I did not speak out; Then they came for the Socialists and Trade Unionists but I was not one of them, so I did not speak out.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n they came for the Jews but I was not Jewish, so I did not speak out. And when they came for me, there was no one left to speak out for me.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tin Niemoller 1892 - 194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ECUTION OF THE JEW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Political Con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By the end of 1934, most Jewish lawyers, doctors, professors, civil servants, and musicians had lost their jobs and the right to practice their profes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Nuremburg Laws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of 1935 deprived Jews of all rights of citizenshi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By 1938, 25% of German Jews had emigrated (many were the "cream of the crop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Social Con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Kristallnacht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(“The Night of Broken Glass”) -- 193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Using assassination of a German diplomat in Paris by young Jewish boy as pretense, Hitler ordered an attack on Jewish communit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Well-organized wave of violence destroyed homes, synagogues, and business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Thousands of Jews were arrested and made to pay for the damage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ECUTION OF THE JEW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embering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Kristallnacht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(“The Night of Broken Glass”) – 1938 Vide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Night of Broken Gl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ti-Semitic Carto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1676520" y="1523880"/>
            <a:ext cx="5333760" cy="37339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432080" y="5599080"/>
            <a:ext cx="661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NISTRY OF EDUCATION REMOVING JEWISH TEACH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re Carto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685800" y="1295280"/>
            <a:ext cx="4648320" cy="41911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334120" y="1407960"/>
            <a:ext cx="3809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gnorant, lured by gold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y stand disgraced in Judah's fol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uls poisoned, blood infected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isaster broods in their womb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re Carto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57200" y="1523880"/>
            <a:ext cx="3886200" cy="48006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4556160" y="1789200"/>
            <a:ext cx="45878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artoon shows a Jew politely asking for room on the bench, after which he shoves the previous inhabitant off. The poem notes that Jews behave the same way in other situ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624852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308640" y="1103400"/>
            <a:ext cx="2835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fe is not worth liv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one does not resist the parasite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ver satisfied as it creeps abou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must and will wi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463800" y="268200"/>
            <a:ext cx="175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Verm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HOLOCAU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fe in the Camps Survivor Vide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Arrival at the Cam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Auschwit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1T01:11:52Z</dcterms:created>
  <dc:creator> </dc:creator>
  <dc:description/>
  <dc:language>en-US</dc:language>
  <cp:lastModifiedBy>School District U46</cp:lastModifiedBy>
  <dcterms:modified xsi:type="dcterms:W3CDTF">2013-02-25T13:34:09Z</dcterms:modified>
  <cp:revision>15</cp:revision>
  <dc:subject/>
  <dc:title>The Holocaust</dc:title>
</cp:coreProperties>
</file>